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F493D-E312-4B29-B369-B8194B4416F1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4571640"/>
            <a:ext cx="62481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4920" y="4419720"/>
            <a:ext cx="632448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4343040"/>
            <a:ext cx="60958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43000" y="4267080"/>
            <a:ext cx="4495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’re growing (one-third) over the past decade, however, demographically we’re staying relatively in the same propor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tion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 =  7,157 (budget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8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8,746 (budget) (22.2% incr from 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9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9,110 (census- budget) (4.2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12,019 (census) (31.9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using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 = 3,311 (community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= 3,619 (community development) (9.3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4,825 (census data) (33.3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13403-FE43-445A-9F6C-5FF5B3E32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2D8B6-44BE-49E3-953A-83FCB1177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AD83-AC8E-4F52-9E6D-130EC1BE15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84EB7-B4AA-44E3-A5C3-9AC63C5BC3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F30189-A2B4-4E9E-A532-8CE02F9906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FE835C-193D-49A5-A937-D28F68B51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20012-88B8-428C-9B3E-1C3AD3426F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20A74-73CE-4F1C-B691-836B88BC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BFFEE0-645B-4B1E-9A23-F6E114881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745A87-9B8C-44C3-9549-D5F8AFF6A6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E66FC-77BD-479C-929B-C388B5B33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E5379-2228-438D-B1DD-CD533FAFD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4FF7B-08CF-4898-81E1-8869F5AE6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152EE-83E8-4E9E-B406-5D0E6A126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B3D461-82C1-4611-BC7B-400F6E93E4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690A22-5A1D-4077-B95C-C9CF643AB9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A52D6-7A03-404E-9E01-A4965AC76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B2B5-E1CF-4671-A351-81CD11DEF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3A57-602D-4005-A57D-0FD870BCE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B5794-1DB5-46B2-A2B6-D5DE3212C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126-0FEF-4090-8C73-61A4DB8B5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6456-69D4-4CB4-B07A-68DF01802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D670C-BCAD-4008-B5DB-607662A79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55D38-9A82-416C-AFC4-DDAD918C3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6CB1A-5E66-42C7-8F0E-364F3B46553D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4F68B3-C993-460B-86E8-346FF109070C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886200" y="380880"/>
          <a:ext cx="457200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80880"/>
                    <a:ext cx="4572000" cy="4164120"/>
                  </a:xfrm>
                  <a:prstGeom prst="rect">
                    <a:avLst/>
                  </a:prstGeom>
                  <a:ln w="76320">
                    <a:solidFill>
                      <a:srgbClr val="b098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4768560"/>
            <a:ext cx="4800600" cy="1477080"/>
          </a:xfrm>
          <a:prstGeom prst="rect">
            <a:avLst/>
          </a:prstGeom>
          <a:solidFill>
            <a:srgbClr val="827c66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001 Citizen Surv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52388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el the City is well-manag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1371600"/>
            <a:ext cx="1600200" cy="10666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5.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66688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ell does the City Government op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6680" y="2971800"/>
          <a:ext cx="7086600" cy="35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7086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781680" y="3505320"/>
            <a:ext cx="129564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5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419720"/>
            <a:ext cx="129528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4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ublic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971800"/>
            <a:ext cx="541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Police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1676520"/>
            <a:ext cx="556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Fire/EMS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6019920"/>
            <a:ext cx="7086600" cy="5806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6 survey Fire/EMS 100%, Police 94.3%, Felt safe 92%.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600200"/>
            <a:ext cx="1535040" cy="1069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9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29718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2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343400"/>
            <a:ext cx="6019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 that they feel safe or very safe in the City of Maitla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3434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25560">
            <a:solidFill>
              <a:srgbClr val="996633"/>
            </a:solidFill>
            <a:miter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52388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the appearance of Maitland Parks a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523880"/>
            <a:ext cx="2143080" cy="1067040"/>
          </a:xfrm>
          <a:custGeom>
            <a:avLst/>
            <a:gdLst>
              <a:gd name="textAreaLeft" fmla="*/ 535680 w 2143080"/>
              <a:gd name="textAreaRight" fmla="*/ 1607400 w 2143080"/>
              <a:gd name="textAreaTop" fmla="*/ 0 h 1067040"/>
              <a:gd name="textAreaBottom" fmla="*/ 933840 h 10670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5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124080"/>
            <a:ext cx="31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2.3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ted the quality of Maitland Parks as good or very good in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cc-mastplan26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3581280" cy="2686320"/>
          </a:xfrm>
          <a:prstGeom prst="rect">
            <a:avLst/>
          </a:prstGeom>
          <a:ln w="57240">
            <a:solidFill>
              <a:srgbClr val="827c6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447920" y="5486400"/>
            <a:ext cx="655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survey results to be discussed lat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04920" y="1371600"/>
          <a:ext cx="807696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0769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447920"/>
            <a:ext cx="6858000" cy="4291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ltural Groups Satisfaction Comparis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2286000"/>
            <a:ext cx="1447920" cy="68256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21.3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3276720"/>
            <a:ext cx="1447920" cy="64260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35.6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4191120"/>
            <a:ext cx="13716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8.7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66680" y="108504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their drinking wat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5800" y="4495680"/>
            <a:ext cx="5562720" cy="2041560"/>
            <a:chOff x="685800" y="4495680"/>
            <a:chExt cx="5562720" cy="2041560"/>
          </a:xfrm>
        </p:grpSpPr>
        <p:sp>
          <p:nvSpPr>
            <p:cNvPr id="195" name=""/>
            <p:cNvSpPr/>
            <p:nvPr/>
          </p:nvSpPr>
          <p:spPr>
            <a:xfrm>
              <a:off x="6858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5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47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61066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2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610812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3.2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38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23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640" y="49348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600" y="55209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640" y="610812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6" name="ag00180_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2210040" cy="1284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819520" y="1600200"/>
            <a:ext cx="5715000" cy="2105280"/>
            <a:chOff x="2819520" y="1600200"/>
            <a:chExt cx="5715000" cy="2105280"/>
          </a:xfrm>
        </p:grpSpPr>
        <p:grpSp>
          <p:nvGrpSpPr>
            <p:cNvPr id="208" name=""/>
            <p:cNvGrpSpPr/>
            <p:nvPr/>
          </p:nvGrpSpPr>
          <p:grpSpPr>
            <a:xfrm>
              <a:off x="5715000" y="1600200"/>
              <a:ext cx="2819520" cy="2105280"/>
              <a:chOff x="5715000" y="1600200"/>
              <a:chExt cx="2819520" cy="2105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7150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8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150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1.1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150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5.3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152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152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9.5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152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4.9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913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2001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915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429000" y="21333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274320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9520" y="327636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66680" y="390456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Maitland lak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286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800600"/>
            <a:ext cx="2819160" cy="78552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opinion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 14.5% ,1996 25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5867280"/>
            <a:ext cx="28191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019560" cy="76176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Str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447920"/>
          <a:ext cx="8686800" cy="43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6868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7086600" y="1828800"/>
            <a:ext cx="1676520" cy="590400"/>
          </a:xfrm>
          <a:prstGeom prst="rect">
            <a:avLst/>
          </a:prstGeom>
          <a:solidFill>
            <a:srgbClr val="808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Poor/Very Poor 5.7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2819520"/>
            <a:ext cx="175284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4.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3886200"/>
            <a:ext cx="1752480" cy="590400"/>
          </a:xfrm>
          <a:prstGeom prst="rect">
            <a:avLst/>
          </a:prstGeom>
          <a:solidFill>
            <a:srgbClr val="00808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8.3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5486400"/>
            <a:ext cx="1371600" cy="528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Very 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562720"/>
            <a:ext cx="1218960" cy="45216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4800240"/>
            <a:ext cx="0" cy="7621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400800" y="4800240"/>
            <a:ext cx="0" cy="6858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bd05679_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1676160" cy="162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Electric Reliability and Undergr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62120" y="1295280"/>
          <a:ext cx="7238880" cy="36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2388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90720" y="1295280"/>
            <a:ext cx="7238880" cy="459720"/>
          </a:xfrm>
          <a:prstGeom prst="rect">
            <a:avLst/>
          </a:prstGeom>
          <a:solidFill>
            <a:srgbClr val="800000"/>
          </a:soli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iability of  Electr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057400"/>
            <a:ext cx="99072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3048120"/>
            <a:ext cx="106668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76560" y="3123720"/>
            <a:ext cx="2057400" cy="457560"/>
            <a:chOff x="4876560" y="3123720"/>
            <a:chExt cx="2057400" cy="457560"/>
          </a:xfrm>
        </p:grpSpPr>
        <p:sp>
          <p:nvSpPr>
            <p:cNvPr id="243" name=""/>
            <p:cNvSpPr/>
            <p:nvPr/>
          </p:nvSpPr>
          <p:spPr>
            <a:xfrm flipH="1">
              <a:off x="4876560" y="3276360"/>
              <a:ext cx="2057400" cy="3049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867280" y="3123720"/>
              <a:ext cx="106668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962160" y="2133360"/>
            <a:ext cx="3810240" cy="533160"/>
            <a:chOff x="3962160" y="2133360"/>
            <a:chExt cx="3810240" cy="533160"/>
          </a:xfrm>
        </p:grpSpPr>
        <p:sp>
          <p:nvSpPr>
            <p:cNvPr id="246" name=""/>
            <p:cNvSpPr/>
            <p:nvPr/>
          </p:nvSpPr>
          <p:spPr>
            <a:xfrm flipH="1">
              <a:off x="3962160" y="2286000"/>
              <a:ext cx="3809880" cy="3805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858000" y="2133360"/>
              <a:ext cx="91440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4952880"/>
            <a:ext cx="2743200" cy="703800"/>
          </a:xfrm>
          <a:prstGeom prst="rect">
            <a:avLst/>
          </a:prstGeom>
          <a:solidFill>
            <a:srgbClr val="827c66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to bury utility lines throughout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943600"/>
            <a:ext cx="2743200" cy="703800"/>
          </a:xfrm>
          <a:prstGeom prst="rect">
            <a:avLst/>
          </a:prstGeom>
          <a:solidFill>
            <a:srgbClr val="b098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if it meant an increase in ta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5181480"/>
            <a:ext cx="0" cy="129564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5241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70.7%  No 18.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65%  No 1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6095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5.6%  No 32.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3%  No 1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14400" y="228600"/>
            <a:ext cx="7848720" cy="91440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op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(% of respondents who state that an initiative is very important or importa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295280"/>
            <a:ext cx="8534520" cy="914400"/>
            <a:chOff x="609480" y="1295280"/>
            <a:chExt cx="8534520" cy="914400"/>
          </a:xfrm>
        </p:grpSpPr>
        <p:sp>
          <p:nvSpPr>
            <p:cNvPr id="260" name=""/>
            <p:cNvSpPr/>
            <p:nvPr/>
          </p:nvSpPr>
          <p:spPr>
            <a:xfrm>
              <a:off x="1981080" y="1295280"/>
              <a:ext cx="71629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.  A program to improve the quality of lake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1295280"/>
              <a:ext cx="12193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75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143000" y="2362320"/>
            <a:ext cx="8229600" cy="868320"/>
            <a:chOff x="1143000" y="2362320"/>
            <a:chExt cx="8229600" cy="868320"/>
          </a:xfrm>
        </p:grpSpPr>
        <p:sp>
          <p:nvSpPr>
            <p:cNvPr id="263" name=""/>
            <p:cNvSpPr/>
            <p:nvPr/>
          </p:nvSpPr>
          <p:spPr>
            <a:xfrm>
              <a:off x="2514600" y="2362320"/>
              <a:ext cx="685800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2. Burying power lines throughout the city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3000" y="2362320"/>
              <a:ext cx="121932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3429000"/>
            <a:ext cx="7924680" cy="914400"/>
            <a:chOff x="533520" y="3429000"/>
            <a:chExt cx="7924680" cy="914400"/>
          </a:xfrm>
        </p:grpSpPr>
        <p:sp>
          <p:nvSpPr>
            <p:cNvPr id="266" name=""/>
            <p:cNvSpPr/>
            <p:nvPr/>
          </p:nvSpPr>
          <p:spPr>
            <a:xfrm>
              <a:off x="1905120" y="3429000"/>
              <a:ext cx="655308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3. More recreational programs for youth between 12 and 18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3429000"/>
              <a:ext cx="121896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2.3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43000" y="4572000"/>
            <a:ext cx="7924680" cy="868320"/>
            <a:chOff x="1143000" y="4572000"/>
            <a:chExt cx="7924680" cy="868320"/>
          </a:xfrm>
        </p:grpSpPr>
        <p:sp>
          <p:nvSpPr>
            <p:cNvPr id="269" name=""/>
            <p:cNvSpPr/>
            <p:nvPr/>
          </p:nvSpPr>
          <p:spPr>
            <a:xfrm>
              <a:off x="2514600" y="4572000"/>
              <a:ext cx="655308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4. Improvements to the 17-92 corridor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4572000"/>
              <a:ext cx="121932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0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57200" y="5638680"/>
            <a:ext cx="8305920" cy="914400"/>
            <a:chOff x="457200" y="5638680"/>
            <a:chExt cx="8305920" cy="914400"/>
          </a:xfrm>
        </p:grpSpPr>
        <p:sp>
          <p:nvSpPr>
            <p:cNvPr id="272" name=""/>
            <p:cNvSpPr/>
            <p:nvPr/>
          </p:nvSpPr>
          <p:spPr>
            <a:xfrm>
              <a:off x="1828800" y="5638680"/>
              <a:ext cx="6934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5. More recreational programs for children between 6 and 11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5638680"/>
              <a:ext cx="1219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228600"/>
            <a:ext cx="7848720" cy="76212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Next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3520" y="1219320"/>
            <a:ext cx="8076960" cy="914400"/>
            <a:chOff x="533520" y="1219320"/>
            <a:chExt cx="8076960" cy="914400"/>
          </a:xfrm>
        </p:grpSpPr>
        <p:sp>
          <p:nvSpPr>
            <p:cNvPr id="276" name=""/>
            <p:cNvSpPr/>
            <p:nvPr/>
          </p:nvSpPr>
          <p:spPr>
            <a:xfrm>
              <a:off x="1905120" y="1219320"/>
              <a:ext cx="67053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6. Improve the appearance of Downtown Maitlan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1219320"/>
              <a:ext cx="12189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5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990720" y="2362320"/>
            <a:ext cx="7467480" cy="914400"/>
            <a:chOff x="990720" y="2362320"/>
            <a:chExt cx="7467480" cy="914400"/>
          </a:xfrm>
        </p:grpSpPr>
        <p:sp>
          <p:nvSpPr>
            <p:cNvPr id="279" name=""/>
            <p:cNvSpPr/>
            <p:nvPr/>
          </p:nvSpPr>
          <p:spPr>
            <a:xfrm>
              <a:off x="2362320" y="2362320"/>
              <a:ext cx="609588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7. Adding new sidewalks where none currently exist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90720" y="2362320"/>
              <a:ext cx="121896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4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57200" y="3505320"/>
            <a:ext cx="6477120" cy="868320"/>
            <a:chOff x="457200" y="3505320"/>
            <a:chExt cx="6477120" cy="868320"/>
          </a:xfrm>
        </p:grpSpPr>
        <p:sp>
          <p:nvSpPr>
            <p:cNvPr id="282" name=""/>
            <p:cNvSpPr/>
            <p:nvPr/>
          </p:nvSpPr>
          <p:spPr>
            <a:xfrm>
              <a:off x="1828800" y="3505320"/>
              <a:ext cx="51055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8. Improving existing sidewalk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3505320"/>
              <a:ext cx="12193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3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14400" y="4572000"/>
            <a:ext cx="8001000" cy="914400"/>
            <a:chOff x="914400" y="4572000"/>
            <a:chExt cx="8001000" cy="914400"/>
          </a:xfrm>
        </p:grpSpPr>
        <p:sp>
          <p:nvSpPr>
            <p:cNvPr id="285" name=""/>
            <p:cNvSpPr/>
            <p:nvPr/>
          </p:nvSpPr>
          <p:spPr>
            <a:xfrm>
              <a:off x="2286000" y="4572000"/>
              <a:ext cx="662940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9. Increased City of Maitland involvement in regional transportation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4572000"/>
              <a:ext cx="121932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7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" y="5791320"/>
            <a:ext cx="7848720" cy="914040"/>
            <a:chOff x="457200" y="5791320"/>
            <a:chExt cx="7848720" cy="914040"/>
          </a:xfrm>
        </p:grpSpPr>
        <p:sp>
          <p:nvSpPr>
            <p:cNvPr id="288" name=""/>
            <p:cNvSpPr/>
            <p:nvPr/>
          </p:nvSpPr>
          <p:spPr>
            <a:xfrm>
              <a:off x="1828800" y="5791320"/>
              <a:ext cx="6477120" cy="9108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0. Expanding the Library to increase holding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5791320"/>
              <a:ext cx="1219320" cy="91404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49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38088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pport for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5715000"/>
            <a:ext cx="8153280" cy="82404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ing appearance of 17-92 through landscaping/medians/sidewalks was asked using the following scale: very important/important/somewhat important/not important/can’t say. All other items based on: yes/no/can’t s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371600"/>
            <a:ext cx="746784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 for Municipal Initiatives compared to support if taxes were to in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28600" y="1523880"/>
          <a:ext cx="89154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9154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Citizen Survey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ribes the methodology used to conduct the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plays the highlights of the 2001 Citizen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ides General Conclu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762120"/>
            <a:ext cx="7848720" cy="75888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is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cc-mastplan25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2" name="summit_parking12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3" name="cc-mastplan11" descr=""/>
          <p:cNvPicPr/>
          <p:nvPr/>
        </p:nvPicPr>
        <p:blipFill>
          <a:blip r:embed="rId3"/>
          <a:stretch/>
        </p:blipFill>
        <p:spPr>
          <a:xfrm>
            <a:off x="3508200" y="4495680"/>
            <a:ext cx="2587680" cy="1941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38080" y="38052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376280"/>
            <a:ext cx="7467840" cy="82548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4.1% of residents have had contact with the City within the last 6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274320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courtesy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2362320"/>
            <a:ext cx="1676160" cy="167616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2.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886200"/>
            <a:ext cx="1676520" cy="167652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5.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42670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helpfulness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5856840"/>
            <a:ext cx="7467480" cy="70380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.6% resident had contact with the City in person, 30.3% by phone,3% e-mail, 3.5% mail, 2.6%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51055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e the Tempo, the City’s newsletter as very good or go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6248520"/>
            <a:ext cx="7010640" cy="398880"/>
          </a:xfrm>
          <a:prstGeom prst="rect">
            <a:avLst/>
          </a:prstGeom>
          <a:solidFill>
            <a:srgbClr val="827c66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.5% of respondents have no opinion regarding the Tem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4840" y="5167080"/>
            <a:ext cx="1630440" cy="714240"/>
          </a:xfrm>
          <a:prstGeom prst="ellipse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5.4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1447920"/>
            <a:ext cx="784872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ents preference on method of communication to learn about the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80880" y="1828800"/>
          <a:ext cx="7162920" cy="35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71629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553080" y="2743200"/>
            <a:ext cx="2590920" cy="871560"/>
          </a:xfrm>
          <a:prstGeom prst="rect">
            <a:avLst/>
          </a:prstGeom>
          <a:solidFill>
            <a:srgbClr val="b098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72.8% no opinion/don’t know when asked to rate the City Websi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90720" y="2133720"/>
            <a:ext cx="7467480" cy="236196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7632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eestyle Script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30492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following individuals supported to this project: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914400"/>
            <a:ext cx="8763120" cy="190512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van Berma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Ph.D., who conducted and presented the surve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my Easti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Analyst, who developed these slid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Michelle delVall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Manager, who oversaw this projec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343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n Sprag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3200400"/>
          <a:ext cx="275760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2757600" cy="3375000"/>
                  </a:xfrm>
                  <a:prstGeom prst="rect">
                    <a:avLst/>
                  </a:prstGeom>
                  <a:ln w="5724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Brian%20Jones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214720" cy="315900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3886200" y="1066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an J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istant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281952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nna William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ity Cle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ynda Denn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nance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vid Tome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ommunity Development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Edward Doy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olice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Dan Hardest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re &amp; Building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Smith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arks &amp; Recreation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ny Leffi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ublic Works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of Maitland Mayor and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groupcouncilphoto" descr=""/>
          <p:cNvPicPr/>
          <p:nvPr/>
        </p:nvPicPr>
        <p:blipFill>
          <a:blip r:embed="rId1"/>
          <a:stretch/>
        </p:blipFill>
        <p:spPr>
          <a:xfrm>
            <a:off x="762120" y="1782720"/>
            <a:ext cx="5333760" cy="4270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grpSp>
        <p:nvGrpSpPr>
          <p:cNvPr id="321" name=""/>
          <p:cNvGrpSpPr/>
          <p:nvPr/>
        </p:nvGrpSpPr>
        <p:grpSpPr>
          <a:xfrm>
            <a:off x="6248520" y="1905120"/>
            <a:ext cx="2895480" cy="3980160"/>
            <a:chOff x="6248520" y="1905120"/>
            <a:chExt cx="2895480" cy="3980160"/>
          </a:xfrm>
        </p:grpSpPr>
        <p:sp>
          <p:nvSpPr>
            <p:cNvPr id="322" name=""/>
            <p:cNvSpPr/>
            <p:nvPr/>
          </p:nvSpPr>
          <p:spPr>
            <a:xfrm>
              <a:off x="6248520" y="19051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yor, Sascha Rizz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251460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ice Mayor, Keith Whi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3080" y="335268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Tom Holl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3080" y="419112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Rick Baldocch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3080" y="518148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  Dr. David Libe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784836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Freestyle Script"/>
              </a:rPr>
              <a:t>Why a survey? 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133720"/>
            <a:ext cx="7010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s the City with citizen perception of community conditions and municipal services that can be used for strengthening existing programs and developing new effor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h01992j" descr=""/>
          <p:cNvPicPr/>
          <p:nvPr/>
        </p:nvPicPr>
        <p:blipFill>
          <a:blip r:embed="rId1"/>
          <a:stretch/>
        </p:blipFill>
        <p:spPr>
          <a:xfrm>
            <a:off x="6477120" y="5181480"/>
            <a:ext cx="968400" cy="14623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7" name="ph01975j" descr=""/>
          <p:cNvPicPr/>
          <p:nvPr/>
        </p:nvPicPr>
        <p:blipFill>
          <a:blip r:embed="rId2"/>
          <a:stretch/>
        </p:blipFill>
        <p:spPr>
          <a:xfrm>
            <a:off x="5105520" y="5181480"/>
            <a:ext cx="965160" cy="14479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8" name="ph01984j" descr=""/>
          <p:cNvPicPr/>
          <p:nvPr/>
        </p:nvPicPr>
        <p:blipFill>
          <a:blip r:embed="rId3"/>
          <a:stretch/>
        </p:blipFill>
        <p:spPr>
          <a:xfrm>
            <a:off x="37339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9" name="ph02019j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How Survey was cond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523880"/>
            <a:ext cx="7467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vey was developed with input from city government staf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items based on the 1996 survey (comparis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were collected through telephone interview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 dialing was used to ensure a valid sample (representative) of City of Maitland resid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e size is 33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s00243_" descr=""/>
          <p:cNvPicPr/>
          <p:nvPr/>
        </p:nvPicPr>
        <p:blipFill>
          <a:blip r:embed="rId1"/>
          <a:stretch/>
        </p:blipFill>
        <p:spPr>
          <a:xfrm>
            <a:off x="7543800" y="4800600"/>
            <a:ext cx="13208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848720" cy="76176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rvey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371600"/>
          <a:ext cx="8077320" cy="240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77320" cy="240660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066680" y="4038480"/>
          <a:ext cx="7239240" cy="150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038480"/>
                    <a:ext cx="7239240" cy="150336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2120" y="5867280"/>
            <a:ext cx="7772400" cy="76212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te: Preliminary 2000 census data for population and race data. No census data exists regarding distribution of residents in different district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940520" cy="7030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Demographics  Captured by the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1371600"/>
            <a:ext cx="601992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w long respondent has lived in Maitlan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371600"/>
            <a:ext cx="22860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n 17.4 y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181480"/>
            <a:ext cx="6476760" cy="75888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dents who have children under 18 years old living at 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5181480"/>
            <a:ext cx="1600200" cy="7621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2320" y="6073920"/>
            <a:ext cx="205740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an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6040" y="6073920"/>
            <a:ext cx="198108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1.8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438280"/>
            <a:ext cx="2209680" cy="114300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formal school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438280"/>
            <a:ext cx="5029200" cy="259092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 than HS 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School 1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College 23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ge Graduate 38.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duate or Professional Degree 25.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733920"/>
            <a:ext cx="2209680" cy="990360"/>
          </a:xfrm>
          <a:prstGeom prst="rect">
            <a:avLst/>
          </a:prstGeom>
          <a:solidFill>
            <a:srgbClr val="b09800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63,7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90920" y="14475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ents feel the quality of life in Maitland is very good or go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Quality of Life in Mait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514600"/>
            <a:ext cx="5638680" cy="3682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ly identical with the 1996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44792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5.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048120"/>
            <a:ext cx="25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9 Orange County and 2000 City of Eustis Survey asked how much citizens agreed with the statement “the quality of life in Orange County/City of Eustis is good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2971800"/>
          <a:ext cx="6476760" cy="32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767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53352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Maitland as a wh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447920"/>
            <a:ext cx="7238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early half of the residents response to how they feel “The City of Maitland as a whole is” </a:t>
            </a:r>
            <a:r>
              <a:rPr b="0" lang="en-US" sz="2900" spc="-1" strike="noStrike">
                <a:solidFill>
                  <a:srgbClr val="f4e300"/>
                </a:solidFill>
                <a:latin typeface="Impact"/>
              </a:rPr>
              <a:t>getting better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2895480"/>
          <a:ext cx="7924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7924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38080" y="2819520"/>
          <a:ext cx="777240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772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990720" y="304920"/>
            <a:ext cx="78483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1430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s trust city government to do what is right most of th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1219320"/>
            <a:ext cx="13716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3.7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1680" y="6080040"/>
            <a:ext cx="5113440" cy="92160"/>
          </a:xfrm>
          <a:custGeom>
            <a:avLst/>
            <a:gdLst/>
            <a:ahLst/>
            <a:rect l="l" t="t" r="r" b="b"/>
            <a:pathLst>
              <a:path w="3221" h="58">
                <a:moveTo>
                  <a:pt x="0" y="58"/>
                </a:moveTo>
                <a:lnTo>
                  <a:pt x="3139" y="58"/>
                </a:lnTo>
                <a:lnTo>
                  <a:pt x="3221" y="0"/>
                </a:lnTo>
                <a:lnTo>
                  <a:pt x="82" y="0"/>
                </a:lnTo>
                <a:lnTo>
                  <a:pt x="0" y="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0" y="5749920"/>
            <a:ext cx="4853520" cy="457200"/>
            <a:chOff x="2286000" y="5749920"/>
            <a:chExt cx="4853520" cy="457200"/>
          </a:xfrm>
        </p:grpSpPr>
        <p:sp>
          <p:nvSpPr>
            <p:cNvPr id="148" name=""/>
            <p:cNvSpPr/>
            <p:nvPr/>
          </p:nvSpPr>
          <p:spPr>
            <a:xfrm>
              <a:off x="22860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064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307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135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36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3916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43000" y="236232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 in Government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6248520"/>
            <a:ext cx="70102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y of Eustis respondents to question with “strongly agree and agree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124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Mait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657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Eus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41148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648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5181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3:12:52Z</dcterms:created>
  <dc:creator>Amy</dc:creator>
  <dc:description/>
  <dc:language>en-US</dc:language>
  <cp:lastModifiedBy>Congessional Quarterly</cp:lastModifiedBy>
  <dcterms:modified xsi:type="dcterms:W3CDTF">2001-08-03T13:02:26Z</dcterms:modified>
  <cp:revision>154</cp:revision>
  <dc:subject/>
  <dc:title>PowerPoint Presentation</dc:title>
</cp:coreProperties>
</file>